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FE8-0215-4618-AD3E-CC0E5395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31F-1C8F-43AE-8D48-EB95C091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A383-45C8-4DA3-9F4E-1923E00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C5ABD-E8F2-416F-8990-0EE819B2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17A1-A47E-419C-BF30-D624538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7083-1397-4071-A9D1-25B3DF2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60A8-6F44-4B2E-B0C8-F068AB7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BC55-5EC7-4672-9252-AFE39A3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50BE-9CEF-4E43-B410-0AA3547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3595A-E607-4553-9BF4-BC85B317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F3D3-3D82-49CD-ADA7-91733215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624F-E59A-40D2-AECB-E3D4C8E5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4FA-C99B-455C-B492-864815A7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B160-FADF-4107-BC75-D2AF007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B5CC0-63D5-4C56-8F01-3BEA662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1826-E2E5-47A0-8EE1-B165B75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34DA-9FEC-4F40-9474-3BD609CD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2D04-68B1-446B-AEE7-C1DBB2A1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CAC6F-04E2-4128-A2CA-2DA1719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5F3E-23F4-46C9-8379-EEA07C4D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0609-2358-4333-AD37-D96FA0B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81CF-0EF9-4449-81CF-1F3F5E6F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EFEF-6B6D-473C-A9A4-A04360AF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943-8CCE-40B2-ABAA-84CDB64E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33D9-E284-46B3-AC6C-75726D25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4D65E-3B23-4AE8-865D-2584DA78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98F74-C306-46BF-A640-B9D9E909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DFE58-25E2-4F31-AB8F-D6511D5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BFEE-B95E-4D56-A99A-5D575F2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630FB-5913-4D5F-8524-4DA2BEB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32CB-0CF2-47E3-88AF-44B1815D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227E-14A7-4135-B9AB-F862DA8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537D5-CD86-4550-AFDD-61BF09E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79263-DD14-4600-8725-0BF97E5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1E2AE-7CA8-4D97-88A7-39D7079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9FD85-53F8-4CC0-B744-5F9265E9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CCD7-9B33-41C8-89AE-28F9CE36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E7C61-99FA-473E-B33C-67900B0D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275E-0E0E-4718-9510-F7A8B1F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9F68C-AB1F-4792-A9DF-84767B7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56BC-E1A2-481F-9C7A-4577CE87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A27FD-39C3-4E81-8B3B-27C6E00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A7C0C-D176-4B81-9E54-C98209C5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D8AD9-2100-43B8-82E4-EE61463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68B99-241E-415C-8BCB-6E99614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BF9F1-5ADE-467E-9B10-CDCEC14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2BBF5-2850-4EC2-8D49-F9F0EAE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E4CAB-1EA9-4A3B-8BE1-333252EC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4D8E-B3D6-47BC-B7D1-83C77F39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7815-A16A-4CDC-AC60-ECB1DE0A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B778-B548-4B40-BDAC-1552DA2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BC93-7582-45E4-9D6B-881D217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5D26-41EE-4F2D-850F-5BB6A62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91596-4EFD-4802-825F-5C86454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0BA9F-1FC6-4214-A31F-0B5CC8D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88E1-7A65-494C-85BE-7E01951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87B8-561B-4050-9122-B158A0D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F14D3-4D85-4ACB-888D-EA0B352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CF9F-C8E1-442F-A4BE-60A0645E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51C61-47F2-4CB9-8152-3067DDB1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6721-6F9B-41BF-AE26-34C0507D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C93D2-90B9-4784-9D4C-D0D1DE27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6EDC8-4F4C-4830-B965-0D217F7E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DF786-5F65-4868-8DAB-0296B59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C8D0A-50E4-4B5B-8D47-41463CE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EC4AA-8E18-41AD-8435-F0FB040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114E3-F6C1-4361-89A8-0A6091D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FB32-C42A-4638-98D2-94C196E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613B7-78C1-48FB-A4E2-B0F124F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3802B-6B16-497B-A6A6-7EF35A0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CBAC8-9555-45E4-80B9-D725A73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15090-FB79-4D94-9CAC-B194C3B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5480-DF98-4A12-ACAC-783A885F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2E232-6248-4AAC-BA34-F09A654A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08F8D-7253-4F1E-9BD1-C454521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9BB8C-CA8F-4671-A4F6-8F36DF85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22A56-8950-4D6B-8FDD-84A71449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4EE10-7B11-49EE-946F-919BB23F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25740-6598-49AE-9FBB-FFE919F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AFC59-210E-45DD-9F44-8BB227D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7F830-FC14-4ADA-929B-B3A076F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390AD-F0F4-44C0-BECC-8383D03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5A8D2-E7DE-4C33-AE76-0DF1FAC8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4F75B-2101-436B-8C43-2CF0F0E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4E754-7D74-44D0-96E5-0570E036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DAC8E-0940-4726-935D-EE672797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9A914-810A-4B29-B456-CB8B0E0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6DEFF-91AF-4E49-A0A9-A6CB4F41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4C132-4FE3-4993-A285-B73D5ED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0FA22-31D7-4269-B6E9-FEA1AC2E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BB3AA-D039-446C-803E-CB8D81E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A6A9C-ABCF-4341-A811-0D10A21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6EE08-D335-4C87-B194-ABAC32D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AAB19-11E5-4C61-9ADE-D2A5B54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75BA7-DC30-4D2F-8858-B4FF079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8E4E3-DAD6-498B-89A9-174F9D81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07536-4521-4403-8C1D-9FBAE20E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61EEE-CD2F-4C68-A2A9-E5DB7BFA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B68A2-BD08-42A8-9BAC-BB9C113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031E0-1750-4709-B3F3-1C0E1650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D8CE3-507D-44E1-B8F0-33D689F0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C8F8F-E926-4D42-B5B5-A627805D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0F227-9EFD-4639-90BF-65B93DE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A3636-71A1-4F28-A454-98F035D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FC5-C139-4594-8C88-6AB2CE65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99460-1787-4C6E-B48C-2550E28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71DE2-3A76-4247-87AD-64EAC5B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77D71-76C8-43B9-ADBE-1BE4CE99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738EE-137D-406F-905E-CAEDD89B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022F1-2139-4E9C-9554-31BA193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D3D34-43C1-444B-9663-CD09E1A4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A4BC4-E714-49DE-8AD7-4F0943D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4E45F-87E0-4989-89D7-C88BFC0B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8DD93-A2AC-4322-8040-8B1320F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A39A1-76DF-4B2D-801D-B921B3F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83A83-EE8A-4CB4-B37B-479B458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1AD17-CFCC-4839-A0B9-8166B38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EA62D-15DF-40F0-AEE2-CD8C69D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B26C1-B41C-414E-9221-AAA4E05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79298-CCC8-470F-9322-4A7BC9F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7C721-893E-4603-A8E2-03241C11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A206A-52AF-4F6C-8FE5-9553573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0E600-F5F1-4FC2-A10B-4E4A8C64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5EF44-5EAA-4C7D-8232-9352C749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D5240-69DD-4CC5-8D41-C4971C6E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93834-B9CF-44E6-A469-781F9DA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3DDC3-C3B4-4677-84F8-97477388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DD19D-C2B9-4CBE-A41A-4E869EF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87D37-BE71-4B5D-9D33-FB4F4325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0D784-1959-49E4-ABE6-F100919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7E7DF-9E75-4575-921D-AA11465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D4783-F518-4EA3-AC93-401CCA1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F5F0D-659A-4DC8-8050-197B72FE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F739A-4F2B-4468-86DB-2198DD7C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C3A24-59BA-474E-89CE-EC180879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A7F34-28B3-482A-B51B-A2BE096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44E8B-0E16-4766-8E9F-6C837C4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798ED-2981-4867-876B-755CFE7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56249-3ED4-46A7-A7C1-5C1501D2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B6E7D-2325-4DB1-8B80-349A959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07A43-6E3D-4488-B0CC-DD8A59A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FF7CE4-9643-4B2A-9681-1220820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27AA8-4A77-491A-97B6-B04E4F8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020AF-9A57-4661-8518-25659D0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C77BD-94A9-409F-85CB-2C0146C4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9E288-E864-406A-A47F-90A9FF1C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C7D90-354E-404B-87BB-44906117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32D93-DD01-4E6A-8B1F-62CE5FA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7AF00-7F04-476E-98FE-131E7E1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3BABB-845D-40E6-8435-D98D32AE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EDF37-CEFE-4BDE-A46A-3700971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20570-0A03-4E03-8F88-D34F419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E8186-023D-4FFF-A0AC-C95C53E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83C1F-A0EF-4D02-B3A4-38401E9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21296-6F44-4104-8C51-B002F92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DA9D1-D478-4966-8720-B8DD0897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20E5B-EED9-4262-8732-A665A6A5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F697A-5F67-4DCA-B430-32F48620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2AD8B-1764-4D3C-938F-D011EB5D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6196C-BA64-4674-9E82-125F6163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BC3120-863E-420E-ADA2-72B1B9F0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CD396-B58F-4A40-A64E-E4D9026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37CFF-A5A2-4D50-B637-0F898FBC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2B6F6-837D-4079-ACE1-2236214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26E23-F7B8-4BF6-A61B-D1BE3E3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97237-CC90-4729-A667-BA8E322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BBA980-80A6-40FA-BDCF-8CC300D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4278F-3897-4352-BFAB-83669B7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797E5-0843-4A01-B839-D629C3B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FE4B2-531A-4AE4-A867-454E3F94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178B3-E4E3-4B46-A9E8-E0459A59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5697D-E5C8-42E2-ACAB-C1883A55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92B6A1-01CE-4543-BF2C-2E560F2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FCEA2-26E8-4BC4-8454-6DBF8E7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B4977-66C6-4659-828D-1E4CBC3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4B757-141F-4246-A826-51DBB64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294DD-8FD1-4FF1-B0F7-8B6CED7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6C48D-D011-454C-BAB2-8982EF3F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7F7DA-C2D9-48FA-A4C5-96D50B5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7D9E8-1E52-4251-9763-C04991B2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A22EC-2506-45EA-8FD4-4073FFBB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989F3-359A-4E5A-8F4D-398E3D17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396D58-EA39-4160-93CA-54E639DA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3BD0C-290F-4EE8-90E2-D0250B1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66AFA-20EC-4E2D-8ED6-3DD4360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6EC030-93D7-4522-8A52-4CB7D405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92305E-624A-49DF-82CC-68B20DD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945F3-B387-47D1-ACC5-5EF2E92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13BE2-87F0-4B2C-901A-52ED064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38DA3-E358-4BBB-BE9C-47840E3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EE8BCC-77EB-4915-8C90-8EACBC8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CCA238-C6CC-48C9-B612-658D021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24B39-8ED5-4B28-BB6D-C605B626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5E38C-DCC6-4B01-8B5C-CBD089A2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E639EA-C81E-46BA-B473-8BA6EF71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8AB23-032B-49C9-890E-C66158EA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A28AE-63A1-4001-A916-96701E0E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78D40-0116-4C82-BD40-7DBD369C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491C1D-FF38-45CA-9008-5321B67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C6C97-8404-44D1-8D8A-157BC23E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CE8CCC-66F6-4BDB-AA3C-1D38497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D5C15-237D-49CB-B368-92DB59B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5D978-4501-43C6-9E02-046612E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BB3D6-ECAB-4106-B82D-FBBB286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C06E9-BEF3-408F-8F4C-BF2E005B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436-6DEE-4D42-BD07-97BC0B50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11E62E-4880-4DA7-B584-0083A8F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4B0A8-860B-417F-9F0F-91D61BB2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1A827-A3B7-41A9-8C22-3FF87E69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B0281E-575A-4C8F-8D73-EB43FAB4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3BE64-A906-4D27-AC64-26540362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DC9ACB-E0A1-467B-AA21-71712E9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F068D4-A527-475E-8B5A-03DF6BA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CDFD78-354F-4BA1-923B-9240171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13B5CD-3F5B-48CC-A49A-D4C5018E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12125-421D-4E5F-B0C7-44E4629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7C6B8B-D857-4B55-8BC8-204AF5BE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57F7C-7D54-40F6-A573-91192BE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803FFC-C8CA-4E05-A677-502665F3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EF4F0C-59A6-4C97-841D-FCCBF6FE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F6A82C-D2E8-47FE-8E03-C69ED586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8E8B2-1614-4A51-82AF-C3A7E1C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5ED966-D15C-461D-83FF-7575BFF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3107C8-7404-4FE0-AB99-1EFDD4B6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44D3D4-E9B7-4592-BDB0-2BE9177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337318-96FE-43D2-AC24-3581D0B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3986FE-33BD-43E1-BE1C-C22E096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675CDB-E566-44BA-89FE-EE982C0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BE8766-D4EF-4F4F-B8F9-EFD3A35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3D3DEB-AE7A-412D-851C-5D036722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F6BA30-1C23-4926-A5E6-994110A8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B60850-9583-4794-AE47-4CE11523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E83318-4D51-4EAA-A5C6-A9500FEA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12C84E-DF35-4F78-A190-3544D487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3E236-BE04-49A2-B333-56D7018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49765E-A78C-486F-B665-3EBECF1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34BA4E-52E8-4815-91B4-2F46CB7B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7651D8-3319-44E5-905F-9E73BFE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4D47EC-2335-4F9B-8EB9-6770A97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53E64-AC64-4F91-A8E6-7E6274E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7FF0FE-993F-4D7C-834A-2FC68ECE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DBA91-A15E-467C-AD99-F7B6D157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4DE909-4363-4808-9C07-9C9E61D1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76C2C1-C479-496B-9E5B-D6EB8A98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0FD7B8-54B7-4A86-9713-793674D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526137-FE6E-4731-8AEB-5CD82C8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1C166F-5A3C-45DA-B001-7767B3F2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37BFE-D552-418F-9EFC-178B9A7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D787F5-706F-434A-A3A5-3CDA821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6C375-FCF8-4843-8A07-E54CD20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760D59-CCA1-4F7B-AA53-D84BB90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89716D-5D51-4F3B-82BC-ED1059F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A1174B-B4B2-45CB-A37A-ADC3B9F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C61F0A-2AA9-4ECC-A006-95228B94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21DB4F-7280-4420-BD95-E51CB05D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C0AD-1F90-468A-91EC-114E520A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B32F-0A7A-4EB7-8BB0-B3DA01FE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4A86-FA57-4851-AB42-CB55C4F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D0D-5327-4502-A3A2-5D18876A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992-897A-46A9-9D51-C1289DAC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695F-F987-41C7-A96B-1DCE0EA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4956-CAF6-4683-BEF8-F47EA55E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271F-7AEE-4891-9271-299E54D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860A-DEEA-4A13-A69D-3859A69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FD93-7423-42AD-BEED-92EC259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1C15-5109-407F-B5F4-F42AED7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6C46-7E77-4610-BE37-44EAC55C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763-3D04-4131-B172-AE9CB82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4878-BD9D-4A5A-A0D4-A2960188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5E1-07DB-492E-8A3B-2B0EACA1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51CA-13AE-4781-A44A-2ED42062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16F5-612E-44F1-93A3-5AAA5B3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CC49-3A54-4BB0-BC8B-C42ED75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BE2F-AC1F-4AA8-82B7-56C05E5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7C0D-F93F-4997-8C8D-33F798B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5727-CE12-434C-869D-47CEAB9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2774-E8FF-483A-AFC6-3B9E18E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B380-EE17-4CAF-B49F-45778D18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4E8B-0C93-477D-AF87-54FF50E1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7D0C-C1B9-48F7-9D84-85FCF486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585-10FC-48E6-A059-94459E1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CD1B-5DE5-4C34-AB87-6D13E644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0DEA-9341-40D6-BA19-FFA4443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153F-3BEF-48D2-819B-8B55C35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18BB-A927-47F7-8D75-3ADC37D6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70D8-B86E-4DBA-B7DA-5EA147F4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BB6D-FD02-4C39-BFCC-CACD642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CC94-9BA1-45C0-B682-5AD8DC1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6E5B-1954-4531-8B00-6A78E75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5AEB-2EBF-4482-B861-E15E6FC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C722-35D6-401D-B47C-7C5F692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24E-9DAE-4DEC-869D-AAE99D7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E7D8-ADCB-4D64-BDC1-3125E970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A09C-0E91-4A9B-A717-15D0EB23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B91B6-DA82-40E1-A40D-9BC9C1DC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AD8E-6066-4E62-8271-28115749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89BA-4A0E-47ED-82DD-E98776F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20D1-965B-4413-9957-B4F95D0C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BC0B-9C53-467A-B2CE-D74415BF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6499-D2EF-4743-99EA-02F6E52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3A2C-2D7A-4285-B3B4-3915214C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0478-92EC-4795-96EC-0BC4CFD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98C-199E-4EB4-89E2-E4F1C03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AA93-DFC5-47AD-A2FD-C93CB9F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01C7-A652-4F78-B7E0-5963192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F466-C8BE-4423-814C-228745E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FEA7-3C3C-4D30-BA32-4E2E1A69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9C32A-48EA-496D-AD40-12513D8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DCD1-4A9B-4E4A-8084-1F17278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CAE1-4177-4A69-9DB3-895086B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0267-4EF7-4B42-8496-F750A48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E965-9AC6-4216-B887-736C97A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4433-2360-4B2B-B84E-39BAB6D5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4C9-1F4D-4E95-8786-B62C0BC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6961-1FDE-47B8-BB14-CC7B95CE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85FF-DD27-4551-8AC2-0963A91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C954-C872-42EA-B364-2636113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7F45-1231-4319-BA25-50E6344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CE3B-D80E-45A1-906B-B465907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4D1B-5372-47BB-BF5A-A8DA8610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9109-32B9-4C98-A93E-BD7E1872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231D8-C688-46F3-95F1-86EE7899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C76CE-1BBE-4622-9992-20A0E2D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9C2E-362B-45FD-8BA0-C1DA299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9F5-A35C-4CC9-B4D0-61F7173BD74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0680-8D5F-4EB9-B653-34B39DFE695E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76B-4A7E-4DEA-90C6-38C3E108A151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2CB-AFA3-42FF-95D0-54FCA7CDB0A4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7345-4377-4926-AAD6-A3FB43158C3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926-3B81-4E98-9813-097FD6284843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59C-B58A-467B-965E-EEAA57A07598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B89B-2375-4AD7-9820-DBD1D801E29E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491-774C-45E3-902A-0E1F572E27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277-7336-4224-996C-1BD1380E2A34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9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C86-673D-4A66-BF4A-62371E57ACCF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4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5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6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7BF-9B7B-4987-BCB1-7D11E32E6D8A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1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2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5AD-9A71-45A6-B281-61DB5A100396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9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E68-CDB2-40ED-AB08-6A43435D85E2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5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5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6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063-E356-44F1-8525-71A2DF899660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2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3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8B3-826C-4861-8488-BB55EAAD823A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F17-452C-4399-8187-183CC67B21AB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7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8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9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2BC8-4901-4550-A076-6FBAF7A2E79E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4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4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4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5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5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6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599-94B4-4BFA-A739-621A5F570B6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1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1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2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2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3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3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8C07-BD7A-45C6-9EF2-5CFB422BB802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8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8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9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9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0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0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PlaceHolder 1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CB19-2771-4CB3-BFDD-57C642233B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2B66-4199-4AD3-A72F-FA72B290131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27B-1004-43AD-9D9A-C114CDBAE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252B-746A-48CA-94CE-34AF0DE228D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DFF-547B-4E24-A3E2-CD2B239C37D1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DC5-E5AE-4E11-8B85-0A72560D901E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B4C6-2E75-4B76-BCB5-A49D39B3E039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57160" y="12139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COMPARATIVE 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AND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       SUPERLATIVE 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                 AD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2" name="Imagem 3" descr="tall_short.bmp"/>
          <p:cNvPicPr/>
          <p:nvPr/>
        </p:nvPicPr>
        <p:blipFill>
          <a:blip r:embed="rId1"/>
          <a:stretch/>
        </p:blipFill>
        <p:spPr>
          <a:xfrm>
            <a:off x="571680" y="314316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1640" y="378900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ant is the small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1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1 syllable we add the ending –est to the adjectiv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mall + est = the small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est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rd + est = the hard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7" name="Picture 24" descr="MCj02331730000[1]"/>
          <p:cNvPicPr/>
          <p:nvPr/>
        </p:nvPicPr>
        <p:blipFill>
          <a:blip r:embed="rId1"/>
          <a:stretch/>
        </p:blipFill>
        <p:spPr>
          <a:xfrm>
            <a:off x="5867280" y="1484280"/>
            <a:ext cx="14954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356000" y="42206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hippo is the fat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2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 one syllable adjective ends with a consonant + a vowel + a consonant you must double the last consonant and ad –e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ig + est = the big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g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at + est = the fa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0" name="Picture 10" descr="hippo"/>
          <p:cNvPicPr/>
          <p:nvPr/>
        </p:nvPicPr>
        <p:blipFill>
          <a:blip r:embed="rId1"/>
          <a:stretch/>
        </p:blipFill>
        <p:spPr>
          <a:xfrm>
            <a:off x="5867280" y="1773360"/>
            <a:ext cx="1295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175280" y="400500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elephant is the heavi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3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ends with a “y”, remove the “y” and add –ie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ppy –y + iest = the happ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unny –y + iest = the funn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3" name="Picture 8" descr="elefante"/>
          <p:cNvPicPr/>
          <p:nvPr/>
        </p:nvPicPr>
        <p:blipFill>
          <a:blip r:embed="rId1"/>
          <a:stretch/>
        </p:blipFill>
        <p:spPr>
          <a:xfrm>
            <a:off x="5580000" y="1484280"/>
            <a:ext cx="2095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858920" y="4365360"/>
            <a:ext cx="3457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airplane is the most expen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4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two syllables or more without a “y” then add the word “most” before the word.  If the adjective ends with a “y”, you will only add the word “most” if it has three syllables or more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eautiful + most = the most beautiful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expensive + most = the most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expensiv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atisfactory + most = the most satisfact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6" name="Picture 8" descr="aviao"/>
          <p:cNvPicPr/>
          <p:nvPr/>
        </p:nvPicPr>
        <p:blipFill>
          <a:blip r:embed="rId1"/>
          <a:stretch/>
        </p:blipFill>
        <p:spPr>
          <a:xfrm>
            <a:off x="5003640" y="692280"/>
            <a:ext cx="30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Rule 5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.  There are a few exceptions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good = the bes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bad = the wors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far = the farth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Remember, when using a superlative you must always precede it with the word “the”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Toyota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small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Ford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bigg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Brad Pitt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most handsome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airplane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most expensive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Jim Carrey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funni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0504d"/>
                </a:solidFill>
                <a:latin typeface="Constantia"/>
              </a:rPr>
              <a:t>Compara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826920" y="1213920"/>
            <a:ext cx="7561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Comparatives are used to show the difference betw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two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objects.  Let’s say that I have two cars.  I have a little Toyota and a big Ford.  A comparative is used to show the difference between the two. The Ford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big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so we can say </a:t>
            </a:r>
            <a:r>
              <a:rPr b="0" lang="en-US" sz="2800" spc="-1" strike="noStrike">
                <a:solidFill>
                  <a:srgbClr val="cc0099"/>
                </a:solidFill>
                <a:latin typeface="Pooh"/>
              </a:rPr>
              <a:t>“the Ford is bigger than the Toyota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 Because the Toyota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small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, we can say </a:t>
            </a:r>
            <a:r>
              <a:rPr b="0" lang="en-US" sz="2800" spc="-1" strike="noStrike">
                <a:solidFill>
                  <a:srgbClr val="006600"/>
                </a:solidFill>
                <a:latin typeface="Pooh"/>
              </a:rPr>
              <a:t>“The Toyota is smaller than the Ford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To learn to use these we need to learn five basic rules.</a:t>
            </a:r>
            <a:r>
              <a:rPr b="0" lang="en-US" sz="2800" spc="-1" strike="noStrike">
                <a:solidFill>
                  <a:srgbClr val="000066"/>
                </a:solidFill>
                <a:latin typeface="CalvinsHa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Rule 1. If an adjective has 1 syllable we add the ending –er to the adjecti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i.e. small + er = small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er 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i.e. hard + er = hard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er 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6" name="Picture 8" descr="MCj02331730000[1]"/>
          <p:cNvPicPr/>
          <p:nvPr/>
        </p:nvPicPr>
        <p:blipFill>
          <a:blip r:embed="rId1"/>
          <a:stretch/>
        </p:blipFill>
        <p:spPr>
          <a:xfrm>
            <a:off x="7236000" y="2276640"/>
            <a:ext cx="1081080" cy="12236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hippo"/>
          <p:cNvPicPr/>
          <p:nvPr/>
        </p:nvPicPr>
        <p:blipFill>
          <a:blip r:embed="rId2"/>
          <a:stretch/>
        </p:blipFill>
        <p:spPr>
          <a:xfrm>
            <a:off x="5148360" y="836640"/>
            <a:ext cx="1512720" cy="2881440"/>
          </a:xfrm>
          <a:prstGeom prst="rect">
            <a:avLst/>
          </a:prstGeom>
          <a:ln w="0">
            <a:noFill/>
          </a:ln>
        </p:spPr>
      </p:pic>
      <p:sp>
        <p:nvSpPr>
          <p:cNvPr id="1658" name="Text Box 10"/>
          <p:cNvSpPr/>
          <p:nvPr/>
        </p:nvSpPr>
        <p:spPr>
          <a:xfrm>
            <a:off x="5003640" y="443700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6600"/>
                </a:solidFill>
                <a:latin typeface="Comic Sans MS"/>
                <a:ea typeface="Arial"/>
              </a:rPr>
              <a:t>The ant is smaller than the hip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40384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2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 one syllable adjective ends with a consonant + a vowel + a consonant you must double the last consonant and then ad –er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ig + er = big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g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at + er = fa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er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Picture 8" descr="elefante"/>
          <p:cNvPicPr/>
          <p:nvPr/>
        </p:nvPicPr>
        <p:blipFill>
          <a:blip r:embed="rId1"/>
          <a:stretch/>
        </p:blipFill>
        <p:spPr>
          <a:xfrm>
            <a:off x="4643280" y="1413000"/>
            <a:ext cx="2095560" cy="21333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9" descr="j0215498"/>
          <p:cNvPicPr/>
          <p:nvPr/>
        </p:nvPicPr>
        <p:blipFill>
          <a:blip r:embed="rId2"/>
          <a:stretch/>
        </p:blipFill>
        <p:spPr>
          <a:xfrm>
            <a:off x="7020000" y="1052640"/>
            <a:ext cx="1417680" cy="257796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0"/>
          <p:cNvSpPr/>
          <p:nvPr/>
        </p:nvSpPr>
        <p:spPr>
          <a:xfrm>
            <a:off x="4500720" y="4221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Comic Sans MS"/>
                <a:ea typeface="Arial"/>
              </a:rPr>
              <a:t>The elephant is fatter than the giraf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3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ends with a “y”, remove the “y” and add –i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ppy –y + ier =  happ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unny –y + ier =  funn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 Box 11"/>
          <p:cNvSpPr/>
          <p:nvPr/>
        </p:nvSpPr>
        <p:spPr>
          <a:xfrm>
            <a:off x="4786200" y="4221000"/>
            <a:ext cx="392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99"/>
                </a:solidFill>
                <a:latin typeface="Comic Sans MS"/>
                <a:ea typeface="Arial"/>
              </a:rPr>
              <a:t>The girl is happier than the duck</a:t>
            </a:r>
            <a:r>
              <a:rPr b="1" lang="pt-PT" sz="3200" spc="-1" strike="noStrike">
                <a:solidFill>
                  <a:srgbClr val="009999"/>
                </a:solidFill>
                <a:latin typeface="Pooh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Picture 12" descr="j0232431"/>
          <p:cNvPicPr/>
          <p:nvPr/>
        </p:nvPicPr>
        <p:blipFill>
          <a:blip r:embed="rId1"/>
          <a:stretch/>
        </p:blipFill>
        <p:spPr>
          <a:xfrm>
            <a:off x="4500720" y="191628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13" descr="j0084306"/>
          <p:cNvPicPr/>
          <p:nvPr/>
        </p:nvPicPr>
        <p:blipFill>
          <a:blip r:embed="rId2"/>
          <a:stretch/>
        </p:blipFill>
        <p:spPr>
          <a:xfrm>
            <a:off x="6804000" y="1557360"/>
            <a:ext cx="18320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4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two syllables or more without a “y” then add the word “more” before the word.  If the adjective ends with a “y”, you will only add the word “more” if it has three syllables or more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eautiful + more =  more beautiful 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expensive + more =  more expensive tha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atisfactory + more = more satisfactory 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8" name="Picture 8" descr="na00649_"/>
          <p:cNvPicPr/>
          <p:nvPr/>
        </p:nvPicPr>
        <p:blipFill>
          <a:blip r:embed="rId1"/>
          <a:stretch/>
        </p:blipFill>
        <p:spPr>
          <a:xfrm>
            <a:off x="7020000" y="1413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9" descr="na00656_"/>
          <p:cNvPicPr/>
          <p:nvPr/>
        </p:nvPicPr>
        <p:blipFill>
          <a:blip r:embed="rId2"/>
          <a:stretch/>
        </p:blipFill>
        <p:spPr>
          <a:xfrm>
            <a:off x="5219640" y="234936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670" name="Text Box 10"/>
          <p:cNvSpPr/>
          <p:nvPr/>
        </p:nvSpPr>
        <p:spPr>
          <a:xfrm>
            <a:off x="4786200" y="371484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66"/>
                </a:solidFill>
                <a:latin typeface="Comic Sans MS"/>
                <a:ea typeface="Arial"/>
              </a:rPr>
              <a:t>The butterfly is more beautiful than the fr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ext Box 8"/>
          <p:cNvSpPr/>
          <p:nvPr/>
        </p:nvSpPr>
        <p:spPr>
          <a:xfrm>
            <a:off x="971640" y="1557360"/>
            <a:ext cx="6840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Rule 5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.  There are a few exceptions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good = better tha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bad = worse tha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far = farther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Text Box 4"/>
          <p:cNvSpPr/>
          <p:nvPr/>
        </p:nvSpPr>
        <p:spPr>
          <a:xfrm>
            <a:off x="642960" y="500040"/>
            <a:ext cx="755964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Remember, when using a comparative you must always follow it with the word “than”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Toyota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smaller tha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e Ford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Ford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bigger tha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e Toyota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ant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small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hi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elephant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fatt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giraf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girl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happi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d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butterfly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more beautiful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fr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Poo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1859c"/>
                </a:solidFill>
                <a:latin typeface="Constantia"/>
              </a:rPr>
              <a:t>Superla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69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Superlatives are used to show the difference betw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more than two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objects.  Let’s say that I have three cars.  I have a little Toyota, a medium size Jeep and a big Ford.  A superlative is used to show the differences that exist in the group. The Ford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big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so we can say </a:t>
            </a:r>
            <a:r>
              <a:rPr b="0" lang="en-US" sz="2800" spc="-1" strike="noStrike">
                <a:solidFill>
                  <a:srgbClr val="cc0099"/>
                </a:solidFill>
                <a:latin typeface="Pooh"/>
              </a:rPr>
              <a:t>“the Ford is the biggest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 Because the Toyota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small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, we can say </a:t>
            </a:r>
            <a:r>
              <a:rPr b="0" lang="en-US" sz="2800" spc="-1" strike="noStrike">
                <a:solidFill>
                  <a:srgbClr val="006600"/>
                </a:solidFill>
                <a:latin typeface="Pooh"/>
              </a:rPr>
              <a:t>“The Toyota is the smallest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To learn to use these we need to learn five basic rules.</a:t>
            </a:r>
            <a:r>
              <a:rPr b="0" lang="en-US" sz="2800" spc="-1" strike="noStrike">
                <a:solidFill>
                  <a:srgbClr val="000066"/>
                </a:solidFill>
                <a:latin typeface="CalvinsHa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42:25Z</dcterms:created>
  <dc:creator>Ditza</dc:creator>
  <dc:description/>
  <dc:language>en-US</dc:language>
  <cp:lastModifiedBy>Nadia Williams</cp:lastModifiedBy>
  <dcterms:modified xsi:type="dcterms:W3CDTF">2014-03-19T14:37:33Z</dcterms:modified>
  <cp:revision>9</cp:revision>
  <dc:subject/>
  <dc:title>COMPARATIVE  AND  SUPERLATIVE  AD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